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48720" y="873612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0386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52344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9780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4872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952344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119780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48720" y="8395200"/>
            <a:ext cx="4952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9400" y="7785000"/>
            <a:ext cx="5791320" cy="78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48720" y="8395200"/>
            <a:ext cx="4952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86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48720" y="873612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0386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52344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9780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4872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952344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119780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48720" y="8395200"/>
            <a:ext cx="4952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09400" y="7785000"/>
            <a:ext cx="5791320" cy="78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386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48720" y="873612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386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52344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19780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4872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952344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1119780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48720" y="8395200"/>
            <a:ext cx="4952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409400" y="7785000"/>
            <a:ext cx="5791320" cy="78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386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48720" y="873612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0386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52344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97800" y="847044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4872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952344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11197800" y="8736120"/>
            <a:ext cx="159444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09400" y="7785000"/>
            <a:ext cx="5791320" cy="78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86720" y="873612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386720" y="8470440"/>
            <a:ext cx="24166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48720" y="8736120"/>
            <a:ext cx="4952880" cy="2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14400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28800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43200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57600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57600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57600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294840"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58968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88452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117936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1179360">
              <a:spcBef>
                <a:spcPts val="9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1179360">
              <a:spcBef>
                <a:spcPts val="9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29844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59652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89496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119304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119304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119304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"/>
          </a:bodyPr>
          <a:p>
            <a:pPr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2052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4104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6156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8208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8208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8208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dv1989002-small.jpg" descr=""/>
          <p:cNvPicPr/>
          <p:nvPr/>
        </p:nvPicPr>
        <p:blipFill>
          <a:blip r:embed="rId2"/>
          <a:srcRect l="775" t="0" r="0" b="13232"/>
          <a:stretch/>
        </p:blipFill>
        <p:spPr>
          <a:xfrm>
            <a:off x="0" y="0"/>
            <a:ext cx="13004640" cy="75945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eb 2.0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  <a:ea typeface="Helvetica Neue"/>
              </a:rPr>
              <a:t>Thomas Mason</a:t>
            </a:r>
            <a:endParaRPr b="0" lang="en-US" sz="2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at do you think of web 2.0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"/>
          <p:cNvSpPr/>
          <p:nvPr/>
        </p:nvSpPr>
        <p:spPr>
          <a:xfrm>
            <a:off x="2698920" y="4867200"/>
            <a:ext cx="7057800" cy="12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Survey collected from 25 student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And 9 Adult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Do you use web 2.0 every day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38560" y="2433600"/>
          <a:ext cx="6526080" cy="635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38560" y="2433600"/>
                    <a:ext cx="65260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9871200" y="2470320"/>
            <a:ext cx="2367000" cy="1765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Green: No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Blue: Ye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How long do you use web 2.0 every day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52440" y="2927520"/>
          <a:ext cx="12335040" cy="471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2927520"/>
                    <a:ext cx="1233504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at website do you use most often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71520" y="2581200"/>
          <a:ext cx="6595920" cy="658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2581200"/>
                    <a:ext cx="6595920" cy="65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8467560" y="3784680"/>
            <a:ext cx="3560760" cy="28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Blue: Facebook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Green: Youtub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Yellow: Instagram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Do you use web 2.0 for pleasure or business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87440" y="2681280"/>
          <a:ext cx="5873760" cy="58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7440" y="2681280"/>
                    <a:ext cx="58737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7701120" y="3597120"/>
            <a:ext cx="3570120" cy="1765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Green: Busines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</a:rPr>
              <a:t>Blue: Pleasur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o conclu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onclusio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Web 2.0 is one of the biggest technological advancements of our generation and without it most of us wouldn't be able to cope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During is projec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219600" y="5016240"/>
            <a:ext cx="131842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  <a:ea typeface="Helvetica Neue"/>
              </a:rPr>
              <a:t>I learnt how to use excel and plan to use it in subjects such as science and math.</a:t>
            </a:r>
            <a:endParaRPr b="0" lang="en-US" sz="2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nsertedImage.jpg" descr=""/>
          <p:cNvPicPr/>
          <p:nvPr/>
        </p:nvPicPr>
        <p:blipFill>
          <a:blip r:embed="rId2"/>
          <a:srcRect l="0" t="12819" r="0" b="12819"/>
          <a:stretch/>
        </p:blipFill>
        <p:spPr>
          <a:xfrm>
            <a:off x="0" y="0"/>
            <a:ext cx="13004640" cy="75945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anks for watching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  <a:ea typeface="Helvetica Neue"/>
              </a:rPr>
              <a:t>By thomas mason</a:t>
            </a:r>
            <a:endParaRPr b="0" lang="en-US" sz="2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7760" y="102996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at Is The Internet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Interne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Inter meaning around the world, 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Net meaning a group of interlinked objects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A connection of computers around the world linking together to make a huge server to serve billions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at Is Web 2.0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eb 2.0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The first update to the internet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reated in 1999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Introduces different forms of communicating information such as: Images, Video, Design etc.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Brought colour into the internet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reated user friendliness 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Before the interne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Libraries, people used books to acquire information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People had to physically go and see each other if they wanted to talk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Letters were written by hand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During the interne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Not much change because the internet was mostly available to business instead of ordinary people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During web 2.0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Internet became available to everyone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But didn't become popular until 2003 when The web became the largest collection of people online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fter web 2.0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218556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Web 3.0, the second update to the world wide web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Includes advanced AI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onnectivity to other mobile devices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And other undisclosed features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